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F4503-8B5E-4760-B4F2-9D5B829C08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CE8A6-1C39-439B-A561-E78B1D9D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AD317-0E2D-4E23-BEE1-930F65A0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239FA-D774-42DE-8EDB-218B37CD83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B06A-2545-46E4-83D4-C3B8B8DD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81527-CB78-4B1E-857B-93D4B5F1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7FA1C-86E7-4C86-BEF5-D7868E80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DDC1D-DC62-4D99-8E0F-A64EF649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D64E1-7088-4789-B4D1-3B38F219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8F3C4-1233-4A0A-92D1-2BA85861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184A4-2374-4F16-B6DF-DC463DD8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BBF36-187E-4FC2-8749-2BF22C17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5C73-1313-47A7-9232-66533C3503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者给予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颅内占位性病变、颅内压增高，拟行手术治疗。入院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他清晨用力排便时突发剧烈头痛，呕吐，左侧肢体瘫痪，意识丧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/88 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右侧瞳孔散大，对光反射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出现了何种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为什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的急救护理措施有哪些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颅内压增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 与频繁呕吐、不能进食和脱水治疗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氧 ：持续或间断给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醒、模糊、浅昏迷、昏迷和深昏迷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瞳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初期瞳孔缩小，对光反射迟钝，后期患侧瞳孔逐渐扩大，直接或间接对光反射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肢体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颅内压突然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床休息，保持病室安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情绪激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剧烈咳嗽和用力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的急救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脱水治疗 遵医嘱快速静脉输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和呋塞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，吸氧。准备气管插管盘及呼吸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、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紧急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高渗性和利尿性脱水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脱水期间要观察血压、脉搏、尿量变化，注意观察和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水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防止颅内压反跳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肾上腺皮质激素如地塞米松、氢化可的松等，可预防和缓解脑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加强观察和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激素引起消化道应激性溃疡机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人房间，室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、意识和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温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患者的病情观察要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的定义、临床表现及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冬眠低温治疗、脑室引流疗法的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库欣反应的含义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两种常见脑疝的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室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无菌操作，妥善固定，保持引流通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翻身时防止引流管滑脱，每日更换引流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适当引流速度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脑脊液性状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脑室引流时间一般不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拔管前应试行夹闭引流管或抬高引流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观察有无颅内压增高现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腰大池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、记录引流液的量、色、质和速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效引流和预防感染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护理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者遵医嘱使用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躁动者寻找原因，遵医嘱给予镇静药物，切忌强行约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介绍疾病相关知识，指导患者及家属学习和掌握康复知识和技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患者要防止剧烈咳嗽、便秘、用力等诱发颅内压骤升的因素，避免脑疝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包括两方面，一是颅腔内容物的体积或量增加，二是颅内空间或颅腔容积缩小。前者多因脑体积增加（如脑组织损伤、缺血缺氧、中毒等导致脑水肿）、脑脊液增多或脑血流量增加。后者可因先天性因素（如狭颅症、颅底凹陷症等先天性畸形使颅腔容积变小）和后天性因素（如颅内血肿、脑肿瘤等颅内占位性病变使颅内空间相对缩小，或大片凹陷性颅骨骨折使颅腔容积变小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早和最主要的症状是头痛、呕吐与视盘水肿，合称颅内压增高三主征，其他有意识障碍、生命体征紊乱、脑疝和阵发性黑矇、头晕、猝倒、头皮静脉曲张等其他症状和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治疗、病因治疗、降低颅内压和对症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绝对卧床休息，保持病室安静。床头抬高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观察生命体征、瞳孔和意识等的变化。避免情绪激动、剧烈咳嗽和便秘，防止颅内压骤升。若出现脑疝及时处理。各项配合治疗的护理，如脱水、激素、脑疝急救、脑室引流和冬眠低温治疗的护理。对高热、头痛、呕吐患者注意对症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神经外科常见临床病理综合征，是颅脑损伤、脑肿瘤、脑出血、脑积水和颅内炎症等疾病引起颅腔内容物体积增加，导致颅内压持续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以上，并出现头痛、呕吐、视盘水肿等相应的综合征，称为颅内压增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多见于清晨，低头、用力时加重。头痛时有恶心呕吐，与进食无关。经常出现癫痫发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：头痛、呕吐、视盘水肿是颅内压增高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盘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：意识障碍进行性加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：意识障碍和瞳孔改变出现较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3:11Z</dcterms:modified>
  <cp:revision>90</cp:revision>
  <dc:subject/>
  <dc:title>内科护理学</dc:title>
</cp:coreProperties>
</file>